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832-9F05-42A9-99AC-8C3A7F6F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75B-0425-4479-84F1-071EA978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39F-8F1D-49F5-909A-9437D0B6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639-D475-4586-AE59-BC0F08A2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B38D-E29A-46AF-B97A-0EEEA475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F9BC-D355-4E91-93FB-CC4F4AAA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F3B6-C010-4188-86FD-62C26DF1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76F6-7C5C-494B-B12E-03E2B8DB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C4B4-B900-4E9F-886D-F922D415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93F0-CBEE-4AF3-BA42-CD3A1C7E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57B5-8192-4278-A4AB-40CFDF3B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1BA-CBD6-4DB8-9FA5-F3129412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780D-83A4-4FDE-A255-7E0C5BED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904D-B616-4BD6-ACB2-B6037AFE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B2BB-7ECD-4682-ACB9-B5C9AFF3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F5B1-3E88-428B-A11D-73F16CF3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00C6-365E-490E-8F32-25B31495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BAC-1402-4BA6-8256-63512725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FAB-ABA8-4883-B9C8-67B458EF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E86-C4B3-4240-B44C-DB4E7EAB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F9B-609E-4B35-8614-B7A85B8E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794-D9FF-48F4-A2D7-448D46FA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F10-9769-463A-B9BE-30A14692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12E-D530-45B6-892F-C1AF7B91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A1AC-60A1-499B-B428-3E8F4C2703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AE14-B003-4EA2-88FE-95D6A7BA21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lo and welco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am Convolo extend a warm welcome to you a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o are we and what do we repres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ackground to the proje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information Team Convolo have based this presentation 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stomers: Why consider th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s are the most vital part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s are concerned with the end result of the system – not how it 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45120" y="2565360"/>
            <a:ext cx="38098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we have focused on the custom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considered how every operational units role will have effected the custom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ed to make it impossible for customers to see any major operational changes in the Airline’s operation – operations should just run more efficient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efits to the custom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ers will be the main benefices if the proposed system is implemen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ation to main benefi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efficiency and accuracy of systems will benefit customers – increased feedback on flight information for custom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of system will instil customer confidence in the Lakeland’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s and costs for the custom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er requirements and needs must always be paramount. Example - Must be able to book, reserve and cancel tick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failure will see loss of customers, and thus loss of reven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04:28Z</dcterms:created>
  <dc:creator>Robert Irwin</dc:creator>
  <dc:description/>
  <dc:language>en-US</dc:language>
  <cp:lastModifiedBy>mcaiyri3</cp:lastModifiedBy>
  <dcterms:modified xsi:type="dcterms:W3CDTF">2002-12-11T09:03:32Z</dcterms:modified>
  <cp:revision>3</cp:revision>
  <dc:subject/>
  <dc:title>Hello and welcome</dc:title>
</cp:coreProperties>
</file>